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B30-8AAD-4513-8600-3E19BE41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03E-CDA9-45CD-8D54-691C8D34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368-B702-4797-A100-23DEE482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4C2-AF96-46C6-9ABD-4F659ADE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BFF6-152B-4A72-81D3-27A5E38B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155C-762E-4B4E-B01C-A150E79B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3B9B-2A0B-45EA-9A0E-8394DF2D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DF21-80D5-4F93-A7C1-2CE76BD5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275A-62B9-4C42-BDC4-D8CEFC3E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B544-CDBC-4F9E-B2A0-5C79170B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2A9F-DC6D-49EF-B69E-3264F619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E8D-8F83-4979-8B72-39602FFC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4FE9-4B27-404D-A2CB-959C3CB4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91B4-E6B3-4C51-AB9A-8229025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75ED-6280-451D-A087-2FF564F1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89FE-51B3-4DF2-A274-EC847F8B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3FD8-96C0-4697-A2E0-0FAA056C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D80-0702-4A45-A92C-3D6A883A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FFB-D17E-4984-ACC7-07312449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BB7-36E8-4E77-9C13-34E9108D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A02-6688-46E0-BA36-67B0DC07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0BD-4426-4472-B743-2F0D8E8A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7A4-D6CD-4F57-9FBB-BE3A7604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CE6-4677-4B3F-81AC-7932FD47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3A7D-759A-4551-A019-78B9B6F995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68AD-0A30-4DDC-9312-F84444F828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Happy Birthday Mrs. Bradford</a:t>
            </a:r>
            <a:br>
              <a:rPr sz="40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From 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Mrs. Bloedorn’s Clas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25640" y="2362320"/>
            <a:ext cx="4983120" cy="3736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2193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98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48:11Z</dcterms:created>
  <dc:creator>cbloedorn</dc:creator>
  <dc:description/>
  <dc:language>en-US</dc:language>
  <cp:lastModifiedBy>cbloedorn</cp:lastModifiedBy>
  <dcterms:modified xsi:type="dcterms:W3CDTF">2008-02-21T16:28:01Z</dcterms:modified>
  <cp:revision>2</cp:revision>
  <dc:subject/>
  <dc:title>Happy Birthday Mrs. Bradford From  Mrs. Bloedorn’s Class</dc:title>
</cp:coreProperties>
</file>